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BB1-865C-402D-A834-4B31D445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814-2FA1-44C0-AD78-D97F6AE7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43D-09CE-49C2-8B64-2D3C2802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577-CF61-4DE6-8450-18DFE52B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531E-15BF-4E3D-9E3B-C1733A2C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88FE-0859-4064-9E31-BE7A06A7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E32-15E0-455E-9B5A-7C7A09E4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F837-A050-47B1-98A7-42882A55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4A5-0C7B-4646-B550-E0C1947B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156-BE42-41E8-BAC0-63B8F179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801F-AE67-4630-A77D-0310AB78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A087-C250-46BD-8D01-DDF0FB49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D94B-6D17-4124-8E4A-16E70464457B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Doubles!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en you see a number, you must double i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1"/>
          <a:stretch/>
        </p:blipFill>
        <p:spPr>
          <a:xfrm>
            <a:off x="6699240" y="2523960"/>
            <a:ext cx="2249640" cy="191484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4" descr=""/>
          <p:cNvPicPr/>
          <p:nvPr/>
        </p:nvPicPr>
        <p:blipFill>
          <a:blip r:embed="rId2"/>
          <a:stretch/>
        </p:blipFill>
        <p:spPr>
          <a:xfrm>
            <a:off x="554040" y="171360"/>
            <a:ext cx="2128680" cy="14320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3"/>
          <a:stretch/>
        </p:blipFill>
        <p:spPr>
          <a:xfrm>
            <a:off x="1584360" y="4962600"/>
            <a:ext cx="20304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990720" y="1752480"/>
            <a:ext cx="76960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143000" y="1752480"/>
            <a:ext cx="6781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Set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219320" y="1752480"/>
            <a:ext cx="70102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GO!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davidl.cogswell\AppData\Local\Microsoft\Windows\Temporary Internet Files\Content.IE5\Z7QGQ8E3\MP900448675[1].jpg"/>
          <p:cNvPicPr/>
          <p:nvPr/>
        </p:nvPicPr>
        <p:blipFill>
          <a:blip r:embed="rId1"/>
          <a:stretch/>
        </p:blipFill>
        <p:spPr>
          <a:xfrm>
            <a:off x="0" y="2457360"/>
            <a:ext cx="4400640" cy="440064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1219320" y="0"/>
            <a:ext cx="792468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00"/>
                </a:solidFill>
                <a:latin typeface="Calibri"/>
              </a:rPr>
              <a:t>Great Job!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Calibri"/>
              </a:rPr>
              <a:t>How did you do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6T12:08:30Z</dcterms:created>
  <dc:creator>David Cogswell</dc:creator>
  <dc:description/>
  <dc:language>en-US</dc:language>
  <cp:lastModifiedBy>Province of NS</cp:lastModifiedBy>
  <dcterms:modified xsi:type="dcterms:W3CDTF">2012-07-09T14:24:56Z</dcterms:modified>
  <cp:revision>1</cp:revision>
  <dc:subject/>
  <dc:title>Doubles!</dc:title>
</cp:coreProperties>
</file>